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7" name=""/>
          <p:cNvGrpSpPr/>
          <p:nvPr/>
        </p:nvGrpSpPr>
        <p:grpSpPr>
          <a:xfrm>
            <a:off x="7736040" y="1929960"/>
            <a:ext cx="457200" cy="1219320"/>
            <a:chOff x="7736040" y="1929960"/>
            <a:chExt cx="457200" cy="1219320"/>
          </a:xfrm>
        </p:grpSpPr>
        <p:sp>
          <p:nvSpPr>
            <p:cNvPr id="38" name=""/>
            <p:cNvSpPr/>
            <p:nvPr/>
          </p:nvSpPr>
          <p:spPr>
            <a:xfrm rot="16200000">
              <a:off x="7354800" y="2310840"/>
              <a:ext cx="1219320" cy="457200"/>
            </a:xfrm>
            <a:prstGeom prst="roundRect">
              <a:avLst>
                <a:gd name="adj" fmla="val 16667"/>
              </a:avLst>
            </a:prstGeom>
            <a:solidFill>
              <a:srgbClr val="008f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764120" y="2262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" name=""/>
          <p:cNvGrpSpPr/>
          <p:nvPr/>
        </p:nvGrpSpPr>
        <p:grpSpPr>
          <a:xfrm>
            <a:off x="8248680" y="1929960"/>
            <a:ext cx="457200" cy="1219320"/>
            <a:chOff x="8248680" y="1929960"/>
            <a:chExt cx="457200" cy="1219320"/>
          </a:xfrm>
        </p:grpSpPr>
        <p:sp>
          <p:nvSpPr>
            <p:cNvPr id="41" name=""/>
            <p:cNvSpPr/>
            <p:nvPr/>
          </p:nvSpPr>
          <p:spPr>
            <a:xfrm rot="16200000">
              <a:off x="7867440" y="2310840"/>
              <a:ext cx="1219320" cy="457200"/>
            </a:xfrm>
            <a:prstGeom prst="roundRect">
              <a:avLst>
                <a:gd name="adj" fmla="val 16667"/>
              </a:avLst>
            </a:prstGeom>
            <a:solidFill>
              <a:srgbClr val="008f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300520" y="2262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" name=""/>
          <p:cNvGrpSpPr/>
          <p:nvPr/>
        </p:nvGrpSpPr>
        <p:grpSpPr>
          <a:xfrm>
            <a:off x="7223040" y="1929960"/>
            <a:ext cx="457200" cy="1219320"/>
            <a:chOff x="7223040" y="1929960"/>
            <a:chExt cx="457200" cy="1219320"/>
          </a:xfrm>
        </p:grpSpPr>
        <p:sp>
          <p:nvSpPr>
            <p:cNvPr id="44" name=""/>
            <p:cNvSpPr/>
            <p:nvPr/>
          </p:nvSpPr>
          <p:spPr>
            <a:xfrm rot="16200000">
              <a:off x="6841800" y="2310840"/>
              <a:ext cx="1219320" cy="457200"/>
            </a:xfrm>
            <a:prstGeom prst="roundRect">
              <a:avLst>
                <a:gd name="adj" fmla="val 16667"/>
              </a:avLst>
            </a:prstGeom>
            <a:solidFill>
              <a:srgbClr val="008f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263720" y="2252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635800" y="1918800"/>
            <a:ext cx="2054160" cy="1560960"/>
            <a:chOff x="5635800" y="1918800"/>
            <a:chExt cx="2054160" cy="1560960"/>
          </a:xfrm>
        </p:grpSpPr>
        <p:sp>
          <p:nvSpPr>
            <p:cNvPr id="47" name=""/>
            <p:cNvSpPr/>
            <p:nvPr/>
          </p:nvSpPr>
          <p:spPr>
            <a:xfrm rot="16200000">
              <a:off x="6828480" y="2300400"/>
              <a:ext cx="1243080" cy="47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1680">
              <a:solidFill>
                <a:srgbClr val="008f6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5635800" y="3208320"/>
              <a:ext cx="1836720" cy="271440"/>
              <a:chOff x="5635800" y="3208320"/>
              <a:chExt cx="1836720" cy="271440"/>
            </a:xfrm>
          </p:grpSpPr>
          <p:sp>
            <p:nvSpPr>
              <p:cNvPr id="49" name=""/>
              <p:cNvSpPr/>
              <p:nvPr/>
            </p:nvSpPr>
            <p:spPr>
              <a:xfrm>
                <a:off x="5635800" y="3435480"/>
                <a:ext cx="1836720" cy="0"/>
              </a:xfrm>
              <a:prstGeom prst="line">
                <a:avLst/>
              </a:prstGeom>
              <a:ln cap="rnd" w="38160">
                <a:solidFill>
                  <a:srgbClr val="008f62"/>
                </a:solidFill>
                <a:custDash>
                  <a:ds d="100000" sp="1000"/>
                </a:custDash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61360" y="3208320"/>
                <a:ext cx="0" cy="271440"/>
              </a:xfrm>
              <a:prstGeom prst="line">
                <a:avLst/>
              </a:prstGeom>
              <a:ln cap="rnd" w="38160">
                <a:solidFill>
                  <a:srgbClr val="008f6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5635800" y="1918800"/>
            <a:ext cx="2558880" cy="2041920"/>
            <a:chOff x="5635800" y="1918800"/>
            <a:chExt cx="2558880" cy="2041920"/>
          </a:xfrm>
        </p:grpSpPr>
        <p:sp>
          <p:nvSpPr>
            <p:cNvPr id="52" name=""/>
            <p:cNvSpPr/>
            <p:nvPr/>
          </p:nvSpPr>
          <p:spPr>
            <a:xfrm rot="16200000">
              <a:off x="7344360" y="2311560"/>
              <a:ext cx="124308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1680">
              <a:solidFill>
                <a:srgbClr val="008f6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5635800" y="3168720"/>
              <a:ext cx="2357280" cy="792000"/>
              <a:chOff x="5635800" y="3168720"/>
              <a:chExt cx="2357280" cy="792000"/>
            </a:xfrm>
          </p:grpSpPr>
          <p:sp>
            <p:nvSpPr>
              <p:cNvPr id="54" name=""/>
              <p:cNvSpPr/>
              <p:nvPr/>
            </p:nvSpPr>
            <p:spPr>
              <a:xfrm>
                <a:off x="5635800" y="3944880"/>
                <a:ext cx="2357280" cy="0"/>
              </a:xfrm>
              <a:prstGeom prst="line">
                <a:avLst/>
              </a:prstGeom>
              <a:ln cap="rnd" w="38160">
                <a:solidFill>
                  <a:srgbClr val="008f62"/>
                </a:solidFill>
                <a:custDash>
                  <a:ds d="100000" sp="1000"/>
                </a:custDash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78680" y="3168720"/>
                <a:ext cx="0" cy="792000"/>
              </a:xfrm>
              <a:prstGeom prst="line">
                <a:avLst/>
              </a:prstGeom>
              <a:ln cap="rnd" w="38160">
                <a:solidFill>
                  <a:srgbClr val="008f6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" name=""/>
          <p:cNvGrpSpPr/>
          <p:nvPr/>
        </p:nvGrpSpPr>
        <p:grpSpPr>
          <a:xfrm>
            <a:off x="5635800" y="1918800"/>
            <a:ext cx="3082680" cy="2580120"/>
            <a:chOff x="5635800" y="1918800"/>
            <a:chExt cx="3082680" cy="2580120"/>
          </a:xfrm>
        </p:grpSpPr>
        <p:sp>
          <p:nvSpPr>
            <p:cNvPr id="57" name=""/>
            <p:cNvSpPr/>
            <p:nvPr/>
          </p:nvSpPr>
          <p:spPr>
            <a:xfrm rot="16200000">
              <a:off x="7862760" y="2306160"/>
              <a:ext cx="1243080" cy="46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1680">
              <a:solidFill>
                <a:srgbClr val="008f6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635800" y="3149640"/>
              <a:ext cx="2879640" cy="1349280"/>
              <a:chOff x="5635800" y="3149640"/>
              <a:chExt cx="2879640" cy="1349280"/>
            </a:xfrm>
          </p:grpSpPr>
          <p:sp>
            <p:nvSpPr>
              <p:cNvPr id="59" name=""/>
              <p:cNvSpPr/>
              <p:nvPr/>
            </p:nvSpPr>
            <p:spPr>
              <a:xfrm>
                <a:off x="5635800" y="4444920"/>
                <a:ext cx="2879640" cy="0"/>
              </a:xfrm>
              <a:prstGeom prst="line">
                <a:avLst/>
              </a:prstGeom>
              <a:ln cap="rnd" w="38160">
                <a:solidFill>
                  <a:srgbClr val="008f62"/>
                </a:solidFill>
                <a:custDash>
                  <a:ds d="100000" sp="1000"/>
                </a:custDash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497800" y="3149640"/>
                <a:ext cx="0" cy="1349280"/>
              </a:xfrm>
              <a:prstGeom prst="line">
                <a:avLst/>
              </a:prstGeom>
              <a:ln cap="rnd" w="38160">
                <a:solidFill>
                  <a:srgbClr val="008f6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5584680" y="1795320"/>
            <a:ext cx="3230640" cy="30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6181200" y="2590560"/>
            <a:ext cx="385920" cy="167796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6181560" y="3106800"/>
            <a:ext cx="385560" cy="167796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6181200" y="3609720"/>
            <a:ext cx="385920" cy="167796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26160" y="3062160"/>
            <a:ext cx="385560" cy="167796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53200" y="3062160"/>
            <a:ext cx="385560" cy="167796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45320" y="3062160"/>
            <a:ext cx="385560" cy="167796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74760" y="-163440"/>
            <a:ext cx="923760" cy="906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0720" y="1012680"/>
            <a:ext cx="6699240" cy="462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0720" y="5383080"/>
            <a:ext cx="3589560" cy="49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0720" y="2827440"/>
            <a:ext cx="2559240" cy="75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0720" y="1903320"/>
            <a:ext cx="3351240" cy="479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46040" y="214200"/>
            <a:ext cx="5110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DELING 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MPLETING THE 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QU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99240" y="32068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94480" y="32068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95960" y="32068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2480" y="37162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97360" y="37162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99200" y="37162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92760" y="42260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88000" y="42260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89840" y="42260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413240" y="1930320"/>
            <a:ext cx="1216080" cy="1216080"/>
            <a:chOff x="4413240" y="1930320"/>
            <a:chExt cx="1216080" cy="1216080"/>
          </a:xfrm>
        </p:grpSpPr>
        <p:sp>
          <p:nvSpPr>
            <p:cNvPr id="85" name=""/>
            <p:cNvSpPr/>
            <p:nvPr/>
          </p:nvSpPr>
          <p:spPr>
            <a:xfrm>
              <a:off x="4413240" y="1930320"/>
              <a:ext cx="1216080" cy="1216080"/>
            </a:xfrm>
            <a:prstGeom prst="roundRect">
              <a:avLst>
                <a:gd name="adj" fmla="val 16667"/>
              </a:avLst>
            </a:prstGeom>
            <a:solidFill>
              <a:srgbClr val="08b3e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08160" y="2232000"/>
              <a:ext cx="50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1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684760" y="1929960"/>
            <a:ext cx="460440" cy="1219320"/>
            <a:chOff x="5684760" y="1929960"/>
            <a:chExt cx="460440" cy="1219320"/>
          </a:xfrm>
        </p:grpSpPr>
        <p:sp>
          <p:nvSpPr>
            <p:cNvPr id="88" name=""/>
            <p:cNvSpPr/>
            <p:nvPr/>
          </p:nvSpPr>
          <p:spPr>
            <a:xfrm rot="16200000">
              <a:off x="5303520" y="2310840"/>
              <a:ext cx="1219320" cy="457200"/>
            </a:xfrm>
            <a:prstGeom prst="roundRect">
              <a:avLst>
                <a:gd name="adj" fmla="val 16667"/>
              </a:avLst>
            </a:prstGeom>
            <a:solidFill>
              <a:srgbClr val="008f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60360" y="2262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197760" y="1929960"/>
            <a:ext cx="457200" cy="1219320"/>
            <a:chOff x="6197760" y="1929960"/>
            <a:chExt cx="457200" cy="1219320"/>
          </a:xfrm>
        </p:grpSpPr>
        <p:sp>
          <p:nvSpPr>
            <p:cNvPr id="91" name=""/>
            <p:cNvSpPr/>
            <p:nvPr/>
          </p:nvSpPr>
          <p:spPr>
            <a:xfrm rot="16200000">
              <a:off x="5816520" y="2310840"/>
              <a:ext cx="1219320" cy="457200"/>
            </a:xfrm>
            <a:prstGeom prst="roundRect">
              <a:avLst>
                <a:gd name="adj" fmla="val 16667"/>
              </a:avLst>
            </a:prstGeom>
            <a:solidFill>
              <a:srgbClr val="008f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57520" y="2262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710400" y="1929960"/>
            <a:ext cx="457200" cy="1219320"/>
            <a:chOff x="6710400" y="1929960"/>
            <a:chExt cx="457200" cy="1219320"/>
          </a:xfrm>
        </p:grpSpPr>
        <p:sp>
          <p:nvSpPr>
            <p:cNvPr id="94" name=""/>
            <p:cNvSpPr/>
            <p:nvPr/>
          </p:nvSpPr>
          <p:spPr>
            <a:xfrm rot="16200000">
              <a:off x="6329160" y="2310840"/>
              <a:ext cx="1219320" cy="457200"/>
            </a:xfrm>
            <a:prstGeom prst="roundRect">
              <a:avLst>
                <a:gd name="adj" fmla="val 16667"/>
              </a:avLst>
            </a:prstGeom>
            <a:solidFill>
              <a:srgbClr val="008f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55760" y="2262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411800" y="3119400"/>
            <a:ext cx="1218960" cy="581400"/>
            <a:chOff x="4411800" y="3119400"/>
            <a:chExt cx="1218960" cy="581400"/>
          </a:xfrm>
        </p:grpSpPr>
        <p:sp>
          <p:nvSpPr>
            <p:cNvPr id="97" name=""/>
            <p:cNvSpPr/>
            <p:nvPr/>
          </p:nvSpPr>
          <p:spPr>
            <a:xfrm rot="10800000">
              <a:off x="4411800" y="3191040"/>
              <a:ext cx="1218960" cy="457200"/>
            </a:xfrm>
            <a:prstGeom prst="roundRect">
              <a:avLst>
                <a:gd name="adj" fmla="val 16667"/>
              </a:avLst>
            </a:prstGeom>
            <a:solidFill>
              <a:srgbClr val="008f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22200" y="3119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412880" y="3629160"/>
            <a:ext cx="1219320" cy="581400"/>
            <a:chOff x="4412880" y="3629160"/>
            <a:chExt cx="1219320" cy="581400"/>
          </a:xfrm>
        </p:grpSpPr>
        <p:sp>
          <p:nvSpPr>
            <p:cNvPr id="100" name=""/>
            <p:cNvSpPr/>
            <p:nvPr/>
          </p:nvSpPr>
          <p:spPr>
            <a:xfrm rot="10800000">
              <a:off x="4412880" y="3705120"/>
              <a:ext cx="1219320" cy="457200"/>
            </a:xfrm>
            <a:prstGeom prst="roundRect">
              <a:avLst>
                <a:gd name="adj" fmla="val 16667"/>
              </a:avLst>
            </a:prstGeom>
            <a:solidFill>
              <a:srgbClr val="008f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22200" y="3629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411800" y="4138560"/>
            <a:ext cx="1218960" cy="581400"/>
            <a:chOff x="4411800" y="4138560"/>
            <a:chExt cx="1218960" cy="581400"/>
          </a:xfrm>
        </p:grpSpPr>
        <p:sp>
          <p:nvSpPr>
            <p:cNvPr id="103" name=""/>
            <p:cNvSpPr/>
            <p:nvPr/>
          </p:nvSpPr>
          <p:spPr>
            <a:xfrm rot="10800000">
              <a:off x="4411800" y="4216320"/>
              <a:ext cx="1218960" cy="457200"/>
            </a:xfrm>
            <a:prstGeom prst="roundRect">
              <a:avLst>
                <a:gd name="adj" fmla="val 16667"/>
              </a:avLst>
            </a:prstGeom>
            <a:solidFill>
              <a:srgbClr val="008f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22200" y="4138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50720" y="3943440"/>
            <a:ext cx="2806920" cy="706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8480" y="1054080"/>
            <a:ext cx="645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lgebra tiles to complete a perfect square trinomi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720" y="1865160"/>
            <a:ext cx="3481560" cy="6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8480" y="198108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1a1"/>
                </a:solidFill>
                <a:latin typeface="Arial"/>
              </a:rPr>
              <a:t>Model the expression </a:t>
            </a:r>
            <a:r>
              <a:rPr b="1" i="1" lang="en-US" sz="1800" spc="-1" strike="noStrike">
                <a:solidFill>
                  <a:srgbClr val="0a51a1"/>
                </a:solidFill>
                <a:latin typeface="Arial"/>
              </a:rPr>
              <a:t>x</a:t>
            </a:r>
            <a:r>
              <a:rPr b="1" i="1" lang="en-US" sz="1400" spc="-1" strike="noStrike">
                <a:solidFill>
                  <a:srgbClr val="0a51a1"/>
                </a:solidFill>
                <a:latin typeface="Arial"/>
              </a:rPr>
              <a:t> </a:t>
            </a:r>
            <a:r>
              <a:rPr b="1" lang="en-US" sz="2400" spc="-1" strike="noStrike" baseline="30000">
                <a:solidFill>
                  <a:srgbClr val="0a51a1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a51a1"/>
                </a:solidFill>
                <a:latin typeface="Arial"/>
              </a:rPr>
              <a:t> + 6</a:t>
            </a:r>
            <a:r>
              <a:rPr b="1" i="1" lang="en-US" sz="1800" spc="-1" strike="noStrike">
                <a:solidFill>
                  <a:srgbClr val="0a51a1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a51a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0600" y="2782800"/>
            <a:ext cx="2676600" cy="8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480" y="2868480"/>
            <a:ext cx="241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1a1"/>
                </a:solidFill>
                <a:latin typeface="Arial"/>
              </a:rPr>
              <a:t>Arrange the </a:t>
            </a:r>
            <a:r>
              <a:rPr b="1" i="1" lang="en-US" sz="1800" spc="-1" strike="noStrike">
                <a:solidFill>
                  <a:srgbClr val="0a51a1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a51a1"/>
                </a:solidFill>
                <a:latin typeface="Arial"/>
              </a:rPr>
              <a:t>-tiles to form part of a squ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3887640"/>
            <a:ext cx="2925720" cy="8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8480" y="3975120"/>
            <a:ext cx="290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1a1"/>
                </a:solidFill>
                <a:latin typeface="Arial"/>
              </a:rPr>
              <a:t>To complete the square, add nine 1-t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8480" y="5446800"/>
            <a:ext cx="35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1a1"/>
                </a:solidFill>
                <a:latin typeface="Arial"/>
              </a:rPr>
              <a:t>You have completed the squ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30880" y="5381640"/>
            <a:ext cx="2936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9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50800" y="1023840"/>
            <a:ext cx="7278840" cy="901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95120" y="200160"/>
            <a:ext cx="6454440" cy="446040"/>
            <a:chOff x="195120" y="200160"/>
            <a:chExt cx="6454440" cy="4460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195120" y="200160"/>
              <a:ext cx="11289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345320" y="212760"/>
              <a:ext cx="530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LVING BY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MPLETING THE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460520" y="61920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473280" y="1066680"/>
            <a:ext cx="3679920" cy="2811600"/>
            <a:chOff x="3473280" y="1066680"/>
            <a:chExt cx="3679920" cy="2811600"/>
          </a:xfrm>
        </p:grpSpPr>
        <p:sp>
          <p:nvSpPr>
            <p:cNvPr id="121" name=""/>
            <p:cNvSpPr/>
            <p:nvPr/>
          </p:nvSpPr>
          <p:spPr>
            <a:xfrm>
              <a:off x="6969240" y="1066680"/>
              <a:ext cx="18396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00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81360" y="1474920"/>
              <a:ext cx="1793880" cy="36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00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73280" y="3483000"/>
              <a:ext cx="243000" cy="395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00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06840" y="3301920"/>
              <a:ext cx="230400" cy="33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00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70480" y="3327480"/>
              <a:ext cx="263520" cy="32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00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604880" y="1473120"/>
            <a:ext cx="5308560" cy="2013120"/>
            <a:chOff x="1604880" y="1473120"/>
            <a:chExt cx="5308560" cy="2013120"/>
          </a:xfrm>
        </p:grpSpPr>
        <p:sp>
          <p:nvSpPr>
            <p:cNvPr id="127" name=""/>
            <p:cNvSpPr/>
            <p:nvPr/>
          </p:nvSpPr>
          <p:spPr>
            <a:xfrm>
              <a:off x="1604880" y="1473120"/>
              <a:ext cx="887400" cy="35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29480" y="3089160"/>
              <a:ext cx="183960" cy="39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37040" y="3089160"/>
              <a:ext cx="184320" cy="39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760840" y="1473120"/>
            <a:ext cx="3779640" cy="2621160"/>
            <a:chOff x="2760840" y="1473120"/>
            <a:chExt cx="3779640" cy="2621160"/>
          </a:xfrm>
        </p:grpSpPr>
        <p:sp>
          <p:nvSpPr>
            <p:cNvPr id="131" name=""/>
            <p:cNvSpPr/>
            <p:nvPr/>
          </p:nvSpPr>
          <p:spPr>
            <a:xfrm>
              <a:off x="4502160" y="3746520"/>
              <a:ext cx="241200" cy="347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76960" y="3718080"/>
              <a:ext cx="263520" cy="371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60840" y="1473120"/>
              <a:ext cx="502920" cy="352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789280" y="3095640"/>
            <a:ext cx="4186440" cy="1073160"/>
            <a:chOff x="2789280" y="3095640"/>
            <a:chExt cx="4186440" cy="1073160"/>
          </a:xfrm>
        </p:grpSpPr>
        <p:sp>
          <p:nvSpPr>
            <p:cNvPr id="135" name=""/>
            <p:cNvSpPr/>
            <p:nvPr/>
          </p:nvSpPr>
          <p:spPr>
            <a:xfrm>
              <a:off x="2789280" y="3397320"/>
              <a:ext cx="350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+           =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1680" y="319248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43240" y="319572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49600" y="3230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49600" y="3648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76600" y="36813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78400" y="319248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72440" y="319248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34120" y="3236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34120" y="3632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61120" y="36878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70080" y="3095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66840" y="3124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601640" y="1103400"/>
            <a:ext cx="70488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To complete the square of the 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, add the square of half the coefficien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77840" y="117360"/>
            <a:ext cx="4061160" cy="460440"/>
            <a:chOff x="177840" y="117360"/>
            <a:chExt cx="4061160" cy="460440"/>
          </a:xfrm>
        </p:grpSpPr>
        <p:sp>
          <p:nvSpPr>
            <p:cNvPr id="151" name=""/>
            <p:cNvSpPr/>
            <p:nvPr/>
          </p:nvSpPr>
          <p:spPr>
            <a:xfrm>
              <a:off x="1554480" y="154080"/>
              <a:ext cx="268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pleting the Squ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47760" y="795240"/>
            <a:ext cx="7364520" cy="914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89160" y="844560"/>
            <a:ext cx="737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What term should you add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so that the result is a perfect squ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47760" y="2133720"/>
            <a:ext cx="153036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0240" y="2147760"/>
            <a:ext cx="1532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289160" y="2554200"/>
            <a:ext cx="7602480" cy="1198800"/>
            <a:chOff x="1289160" y="2554200"/>
            <a:chExt cx="7602480" cy="1198800"/>
          </a:xfrm>
        </p:grpSpPr>
        <p:sp>
          <p:nvSpPr>
            <p:cNvPr id="159" name=""/>
            <p:cNvSpPr/>
            <p:nvPr/>
          </p:nvSpPr>
          <p:spPr>
            <a:xfrm>
              <a:off x="1289160" y="2998800"/>
              <a:ext cx="76024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–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so you should add             , or 16, to the express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6808680" y="2554200"/>
              <a:ext cx="1101600" cy="1119240"/>
              <a:chOff x="6808680" y="2554200"/>
              <a:chExt cx="1101600" cy="1119240"/>
            </a:xfrm>
          </p:grpSpPr>
          <p:sp>
            <p:nvSpPr>
              <p:cNvPr id="161" name=""/>
              <p:cNvSpPr/>
              <p:nvPr/>
            </p:nvSpPr>
            <p:spPr>
              <a:xfrm>
                <a:off x="7467480" y="269712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808680" y="268920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070040" y="2701800"/>
                <a:ext cx="524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e000d"/>
                    </a:solidFill>
                    <a:latin typeface="Times New Roman"/>
                  </a:rPr>
                  <a:t>–</a:t>
                </a:r>
                <a:r>
                  <a:rPr b="0" lang="en-US" sz="2600" spc="-1" strike="noStrike">
                    <a:solidFill>
                      <a:srgbClr val="fe000d"/>
                    </a:solidFill>
                    <a:latin typeface="Times New Roman"/>
                  </a:rPr>
                  <a:t>8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11880" y="3152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186680" y="3170160"/>
                <a:ext cx="304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577280" y="2554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f62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1736640" y="4233960"/>
            <a:ext cx="6493680" cy="1118880"/>
            <a:chOff x="1736640" y="4233960"/>
            <a:chExt cx="6493680" cy="1118880"/>
          </a:xfrm>
        </p:grpSpPr>
        <p:sp>
          <p:nvSpPr>
            <p:cNvPr id="168" name=""/>
            <p:cNvSpPr/>
            <p:nvPr/>
          </p:nvSpPr>
          <p:spPr>
            <a:xfrm>
              <a:off x="1736640" y="4591080"/>
              <a:ext cx="15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–  8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224160" y="4233960"/>
              <a:ext cx="1101600" cy="1118880"/>
              <a:chOff x="3224160" y="4233960"/>
              <a:chExt cx="1101600" cy="1118880"/>
            </a:xfrm>
          </p:grpSpPr>
          <p:sp>
            <p:nvSpPr>
              <p:cNvPr id="170" name=""/>
              <p:cNvSpPr/>
              <p:nvPr/>
            </p:nvSpPr>
            <p:spPr>
              <a:xfrm>
                <a:off x="3898800" y="437688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224160" y="436716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485520" y="4381560"/>
                <a:ext cx="524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e000d"/>
                    </a:solidFill>
                    <a:latin typeface="Times New Roman"/>
                  </a:rPr>
                  <a:t>–</a:t>
                </a:r>
                <a:r>
                  <a:rPr b="0" lang="en-US" sz="2600" spc="-1" strike="noStrike">
                    <a:solidFill>
                      <a:srgbClr val="fe000d"/>
                    </a:solidFill>
                    <a:latin typeface="Times New Roman"/>
                  </a:rPr>
                  <a:t>8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27360" y="4832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02160" y="4849920"/>
                <a:ext cx="304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992760" y="4233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f62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4315320" y="4600440"/>
              <a:ext cx="39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–  8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+ 16 = 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– 4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177840" y="112680"/>
            <a:ext cx="4061160" cy="460440"/>
            <a:chOff x="177840" y="112680"/>
            <a:chExt cx="4061160" cy="460440"/>
          </a:xfrm>
        </p:grpSpPr>
        <p:sp>
          <p:nvSpPr>
            <p:cNvPr id="180" name=""/>
            <p:cNvSpPr/>
            <p:nvPr/>
          </p:nvSpPr>
          <p:spPr>
            <a:xfrm>
              <a:off x="1554480" y="149400"/>
              <a:ext cx="268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pleting the Squ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177840" y="11268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1668600" y="51120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2560" y="1612800"/>
            <a:ext cx="144792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79680" y="163656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1560" y="4557600"/>
            <a:ext cx="4316400" cy="1189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62480" y="3849840"/>
            <a:ext cx="3009960" cy="546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19640" y="3819600"/>
            <a:ext cx="318600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79760" y="393696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Divide each side by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79760" y="3119400"/>
            <a:ext cx="27511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84800" y="2413080"/>
            <a:ext cx="3103560" cy="527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45800" y="3114720"/>
            <a:ext cx="149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2381400"/>
            <a:ext cx="318600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73200" y="973080"/>
            <a:ext cx="3000240" cy="44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96520" y="2451240"/>
            <a:ext cx="19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25760" y="3089160"/>
            <a:ext cx="3186360" cy="5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712520" y="3751200"/>
            <a:ext cx="1794600" cy="749880"/>
            <a:chOff x="1712520" y="3751200"/>
            <a:chExt cx="1794600" cy="749880"/>
          </a:xfrm>
        </p:grpSpPr>
        <p:sp>
          <p:nvSpPr>
            <p:cNvPr id="197" name=""/>
            <p:cNvSpPr/>
            <p:nvPr/>
          </p:nvSpPr>
          <p:spPr>
            <a:xfrm>
              <a:off x="1712520" y="3878280"/>
              <a:ext cx="179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2376360" y="3751200"/>
              <a:ext cx="320760" cy="749880"/>
              <a:chOff x="2376360" y="3751200"/>
              <a:chExt cx="320760" cy="749880"/>
            </a:xfrm>
          </p:grpSpPr>
          <p:sp>
            <p:nvSpPr>
              <p:cNvPr id="199" name=""/>
              <p:cNvSpPr/>
              <p:nvPr/>
            </p:nvSpPr>
            <p:spPr>
              <a:xfrm>
                <a:off x="2422800" y="41194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376360" y="375120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76360" y="407196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4424400" y="2475000"/>
            <a:ext cx="317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14680" y="3170160"/>
            <a:ext cx="25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Add 2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85280" y="4573440"/>
            <a:ext cx="3580560" cy="964080"/>
            <a:chOff x="485280" y="4573440"/>
            <a:chExt cx="3580560" cy="964080"/>
          </a:xfrm>
        </p:grpSpPr>
        <p:grpSp>
          <p:nvGrpSpPr>
            <p:cNvPr id="205" name=""/>
            <p:cNvGrpSpPr/>
            <p:nvPr/>
          </p:nvGrpSpPr>
          <p:grpSpPr>
            <a:xfrm>
              <a:off x="1116000" y="4703760"/>
              <a:ext cx="320760" cy="749880"/>
              <a:chOff x="1116000" y="4703760"/>
              <a:chExt cx="320760" cy="749880"/>
            </a:xfrm>
          </p:grpSpPr>
          <p:sp>
            <p:nvSpPr>
              <p:cNvPr id="206" name=""/>
              <p:cNvSpPr/>
              <p:nvPr/>
            </p:nvSpPr>
            <p:spPr>
              <a:xfrm>
                <a:off x="1162080" y="507204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116000" y="470376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116000" y="502452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85280" y="4840200"/>
              <a:ext cx="318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= 1 </a:t>
              </a:r>
              <a:r>
                <a:rPr b="1" lang="en-US" sz="2400" spc="-1" strike="noStrike">
                  <a:solidFill>
                    <a:srgbClr val="fe000d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82640" y="4673520"/>
              <a:ext cx="3924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e000d"/>
                  </a:solidFill>
                  <a:latin typeface="Times New Roman"/>
                </a:rPr>
                <a:t>)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69840" y="4664160"/>
              <a:ext cx="3924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e000d"/>
                  </a:solidFill>
                  <a:latin typeface="Times New Roman"/>
                </a:rPr>
                <a:t>(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47920" y="470232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e000d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44680" y="510840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e000d"/>
                  </a:solidFill>
                  <a:latin typeface="Times New Roman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41440" y="5100480"/>
              <a:ext cx="304920" cy="0"/>
            </a:xfrm>
            <a:prstGeom prst="line">
              <a:avLst/>
            </a:prstGeom>
            <a:ln w="19080">
              <a:solidFill>
                <a:srgbClr val="fe0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28440" y="4573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000d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19240" y="485784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000d"/>
                  </a:solidFill>
                  <a:latin typeface="Times New Roman"/>
                </a:rPr>
                <a:t>–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33920" y="5078520"/>
              <a:ext cx="263520" cy="0"/>
            </a:xfrm>
            <a:prstGeom prst="line">
              <a:avLst/>
            </a:prstGeom>
            <a:ln w="28440">
              <a:solidFill>
                <a:srgbClr val="fe0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76680" y="471168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e000d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4680" y="5051520"/>
              <a:ext cx="461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e000d"/>
                  </a:solidFill>
                  <a:latin typeface="Times New Roman"/>
                </a:rPr>
                <a:t>1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413240" y="4508640"/>
            <a:ext cx="3980160" cy="1197360"/>
            <a:chOff x="4413240" y="4508640"/>
            <a:chExt cx="3980160" cy="1197360"/>
          </a:xfrm>
        </p:grpSpPr>
        <p:sp>
          <p:nvSpPr>
            <p:cNvPr id="221" name=""/>
            <p:cNvSpPr/>
            <p:nvPr/>
          </p:nvSpPr>
          <p:spPr>
            <a:xfrm>
              <a:off x="4413240" y="4805280"/>
              <a:ext cx="371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1a1"/>
                  </a:solidFill>
                  <a:latin typeface="Arial"/>
                </a:rPr>
                <a:t>Add                    =               , or</a:t>
              </a:r>
              <a:r>
                <a:rPr b="0" lang="en-US" sz="2000" spc="-1" strike="noStrike">
                  <a:solidFill>
                    <a:srgbClr val="0a51a1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a51a1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a51a1"/>
                  </a:solidFill>
                  <a:latin typeface="Arial"/>
                </a:rPr>
                <a:t>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71960" y="4578480"/>
              <a:ext cx="3924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e000d"/>
                  </a:solidFill>
                  <a:latin typeface="Times New Roman"/>
                </a:rPr>
                <a:t>(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83080" y="5008680"/>
              <a:ext cx="228600" cy="0"/>
            </a:xfrm>
            <a:prstGeom prst="line">
              <a:avLst/>
            </a:prstGeom>
            <a:ln w="28440">
              <a:solidFill>
                <a:srgbClr val="fe0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25840" y="464040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e000d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37000" y="496080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e000d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99040" y="477036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000d"/>
                  </a:solidFill>
                  <a:latin typeface="Times New Roman"/>
                </a:rPr>
                <a:t>–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25720" y="4857840"/>
              <a:ext cx="26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000d"/>
                  </a:solidFill>
                  <a:latin typeface="Times New Roman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91040" y="5018040"/>
              <a:ext cx="228600" cy="0"/>
            </a:xfrm>
            <a:prstGeom prst="line">
              <a:avLst/>
            </a:prstGeom>
            <a:ln w="28440">
              <a:solidFill>
                <a:srgbClr val="fe0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33800" y="464976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e000d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44960" y="497052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e000d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18120" y="4581360"/>
              <a:ext cx="3924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e000d"/>
                  </a:solidFill>
                  <a:latin typeface="Times New Roman"/>
                </a:rPr>
                <a:t>)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45280" y="4986360"/>
              <a:ext cx="263520" cy="0"/>
            </a:xfrm>
            <a:prstGeom prst="line">
              <a:avLst/>
            </a:prstGeom>
            <a:ln w="28440">
              <a:solidFill>
                <a:srgbClr val="fe0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88040" y="461808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e000d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32240" y="4960800"/>
              <a:ext cx="461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e000d"/>
                  </a:solidFill>
                  <a:latin typeface="Times New Roman"/>
                </a:rPr>
                <a:t>1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1840" y="4518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000d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81640" y="4575240"/>
              <a:ext cx="3924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e000d"/>
                  </a:solidFill>
                  <a:latin typeface="Times New Roman"/>
                </a:rPr>
                <a:t>)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68840" y="4565520"/>
              <a:ext cx="3924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e000d"/>
                  </a:solidFill>
                  <a:latin typeface="Times New Roman"/>
                </a:rPr>
                <a:t>(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46920" y="460368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e000d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43680" y="501012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e000d"/>
                  </a:solidFill>
                  <a:latin typeface="Times New Roman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45480" y="5019840"/>
              <a:ext cx="304560" cy="0"/>
            </a:xfrm>
            <a:prstGeom prst="line">
              <a:avLst/>
            </a:prstGeom>
            <a:ln w="19080">
              <a:solidFill>
                <a:srgbClr val="fe0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05120" y="4508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000d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18240" y="475920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000d"/>
                  </a:solidFill>
                  <a:latin typeface="Times New Roman"/>
                </a:rPr>
                <a:t>–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30160" y="5307120"/>
              <a:ext cx="162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1a1"/>
                  </a:solidFill>
                  <a:latin typeface="Arial"/>
                </a:rPr>
                <a:t>to each sid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162080" y="822240"/>
            <a:ext cx="6826320" cy="35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46" name=""/>
          <p:cNvGrpSpPr/>
          <p:nvPr/>
        </p:nvGrpSpPr>
        <p:grpSpPr>
          <a:xfrm>
            <a:off x="111240" y="100080"/>
            <a:ext cx="4061160" cy="460440"/>
            <a:chOff x="111240" y="100080"/>
            <a:chExt cx="4061160" cy="460440"/>
          </a:xfrm>
        </p:grpSpPr>
        <p:sp>
          <p:nvSpPr>
            <p:cNvPr id="247" name=""/>
            <p:cNvSpPr/>
            <p:nvPr/>
          </p:nvSpPr>
          <p:spPr>
            <a:xfrm>
              <a:off x="1487880" y="136800"/>
              <a:ext cx="268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pleting the Squ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111240" y="10008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1541520" y="498600"/>
            <a:ext cx="73468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198440" y="1890720"/>
            <a:ext cx="2279880" cy="964080"/>
            <a:chOff x="1198440" y="1890720"/>
            <a:chExt cx="2279880" cy="964080"/>
          </a:xfrm>
        </p:grpSpPr>
        <p:sp>
          <p:nvSpPr>
            <p:cNvPr id="251" name=""/>
            <p:cNvSpPr/>
            <p:nvPr/>
          </p:nvSpPr>
          <p:spPr>
            <a:xfrm>
              <a:off x="2188800" y="1990440"/>
              <a:ext cx="3924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54080" y="201924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50840" y="242568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47600" y="24177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34600" y="1890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25400" y="219060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98440" y="1984320"/>
              <a:ext cx="3924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99680" y="2190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39520" y="2170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24080" y="2408040"/>
              <a:ext cx="26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11040" y="2019240"/>
              <a:ext cx="461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17160" y="2403360"/>
              <a:ext cx="461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564080" y="2185920"/>
            <a:ext cx="3432240" cy="546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667880" y="3068640"/>
            <a:ext cx="2179080" cy="835560"/>
            <a:chOff x="1667880" y="3068640"/>
            <a:chExt cx="2179080" cy="835560"/>
          </a:xfrm>
        </p:grpSpPr>
        <p:sp>
          <p:nvSpPr>
            <p:cNvPr id="265" name=""/>
            <p:cNvSpPr/>
            <p:nvPr/>
          </p:nvSpPr>
          <p:spPr>
            <a:xfrm>
              <a:off x="2994840" y="323676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322800" y="3081240"/>
              <a:ext cx="524160" cy="805320"/>
              <a:chOff x="3322800" y="3081240"/>
              <a:chExt cx="524160" cy="805320"/>
            </a:xfrm>
          </p:grpSpPr>
          <p:sp>
            <p:nvSpPr>
              <p:cNvPr id="267" name=""/>
              <p:cNvSpPr/>
              <p:nvPr/>
            </p:nvSpPr>
            <p:spPr>
              <a:xfrm>
                <a:off x="3529080" y="3089160"/>
                <a:ext cx="3178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48000" y="3287880"/>
                <a:ext cx="255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373560" y="3287880"/>
                <a:ext cx="5220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40160" y="3081240"/>
                <a:ext cx="361800" cy="284400"/>
              </a:xfrm>
              <a:custGeom>
                <a:avLst/>
                <a:gdLst/>
                <a:ahLst/>
                <a:rect l="l" t="t" r="r" b="b"/>
                <a:pathLst>
                  <a:path w="228" h="179">
                    <a:moveTo>
                      <a:pt x="0" y="179"/>
                    </a:moveTo>
                    <a:lnTo>
                      <a:pt x="49" y="0"/>
                    </a:lnTo>
                    <a:lnTo>
                      <a:pt x="22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17920" y="350532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322800" y="3468600"/>
                <a:ext cx="5158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243160" y="3068640"/>
              <a:ext cx="334800" cy="835560"/>
              <a:chOff x="2243160" y="3068640"/>
              <a:chExt cx="334800" cy="835560"/>
            </a:xfrm>
          </p:grpSpPr>
          <p:sp>
            <p:nvSpPr>
              <p:cNvPr id="274" name=""/>
              <p:cNvSpPr/>
              <p:nvPr/>
            </p:nvSpPr>
            <p:spPr>
              <a:xfrm>
                <a:off x="2257200" y="306864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243160" y="347508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251080" y="34671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1667880" y="321300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4564080" y="3149640"/>
            <a:ext cx="4149720" cy="49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64080" y="4113360"/>
            <a:ext cx="2927160" cy="806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64080" y="774720"/>
            <a:ext cx="4316400" cy="1189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78400" y="722160"/>
            <a:ext cx="4491000" cy="12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37600" y="725400"/>
            <a:ext cx="8408160" cy="1197360"/>
            <a:chOff x="237600" y="725400"/>
            <a:chExt cx="8408160" cy="1197360"/>
          </a:xfrm>
        </p:grpSpPr>
        <p:grpSp>
          <p:nvGrpSpPr>
            <p:cNvPr id="283" name=""/>
            <p:cNvGrpSpPr/>
            <p:nvPr/>
          </p:nvGrpSpPr>
          <p:grpSpPr>
            <a:xfrm>
              <a:off x="237600" y="804960"/>
              <a:ext cx="3580560" cy="964080"/>
              <a:chOff x="237600" y="804960"/>
              <a:chExt cx="3580560" cy="96408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857160" y="934920"/>
                <a:ext cx="331560" cy="749520"/>
                <a:chOff x="857160" y="934920"/>
                <a:chExt cx="331560" cy="7495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914040" y="13032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57160" y="934920"/>
                  <a:ext cx="320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67960" y="1255320"/>
                  <a:ext cx="320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237600" y="1071360"/>
                <a:ext cx="318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= 1 </a:t>
                </a:r>
                <a:r>
                  <a:rPr b="1" lang="en-US" sz="2400" spc="-1" strike="noStrike">
                    <a:solidFill>
                      <a:srgbClr val="fe000d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34960" y="904680"/>
                <a:ext cx="39240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0" spc="-1" strike="noStrike">
                    <a:solidFill>
                      <a:srgbClr val="fe000d"/>
                    </a:solidFill>
                    <a:latin typeface="Times New Roman"/>
                  </a:rPr>
                  <a:t>)</a:t>
                </a:r>
                <a:endParaRPr b="0" lang="en-US" sz="5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622160" y="895320"/>
                <a:ext cx="39240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0" spc="-1" strike="noStrike">
                    <a:solidFill>
                      <a:srgbClr val="fe000d"/>
                    </a:solidFill>
                    <a:latin typeface="Times New Roman"/>
                  </a:rPr>
                  <a:t>(</a:t>
                </a:r>
                <a:endParaRPr b="0" lang="en-US" sz="5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99880" y="93348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e000d"/>
                    </a:solidFill>
                    <a:latin typeface="Times New Roman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097000" y="133992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e000d"/>
                    </a:solidFill>
                    <a:latin typeface="Times New Roman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093760" y="1332000"/>
                <a:ext cx="304920" cy="0"/>
              </a:xfrm>
              <a:prstGeom prst="line">
                <a:avLst/>
              </a:prstGeom>
              <a:ln w="19080">
                <a:solidFill>
                  <a:srgbClr val="fe0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480760" y="8049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e000d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771560" y="108900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e000d"/>
                    </a:solidFill>
                    <a:latin typeface="Times New Roman"/>
                  </a:rPr>
                  <a:t>–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86240" y="1309680"/>
                <a:ext cx="263520" cy="0"/>
              </a:xfrm>
              <a:prstGeom prst="line">
                <a:avLst/>
              </a:prstGeom>
              <a:ln w="28440">
                <a:solidFill>
                  <a:srgbClr val="fe0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8640" y="94284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e000d"/>
                    </a:solidFill>
                    <a:latin typeface="Times New Roman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357000" y="1282680"/>
                <a:ext cx="4611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e000d"/>
                    </a:solidFill>
                    <a:latin typeface="Times New Roman"/>
                  </a:rPr>
                  <a:t>1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4665600" y="725400"/>
              <a:ext cx="3980160" cy="1197360"/>
              <a:chOff x="4665600" y="725400"/>
              <a:chExt cx="3980160" cy="1197360"/>
            </a:xfrm>
          </p:grpSpPr>
          <p:sp>
            <p:nvSpPr>
              <p:cNvPr id="300" name=""/>
              <p:cNvSpPr/>
              <p:nvPr/>
            </p:nvSpPr>
            <p:spPr>
              <a:xfrm>
                <a:off x="4665600" y="1022040"/>
                <a:ext cx="3713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a51a1"/>
                    </a:solidFill>
                    <a:latin typeface="Arial"/>
                  </a:rPr>
                  <a:t>Add                    =               , or</a:t>
                </a:r>
                <a:r>
                  <a:rPr b="0" lang="en-US" sz="2000" spc="-1" strike="noStrike">
                    <a:solidFill>
                      <a:srgbClr val="0a51a1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a51a1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a51a1"/>
                    </a:solidFill>
                    <a:latin typeface="Arial"/>
                  </a:rPr>
                  <a:t>        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24320" y="795240"/>
                <a:ext cx="39240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0" spc="-1" strike="noStrike">
                    <a:solidFill>
                      <a:srgbClr val="fe000d"/>
                    </a:solidFill>
                    <a:latin typeface="Times New Roman"/>
                  </a:rPr>
                  <a:t>(</a:t>
                </a:r>
                <a:endParaRPr b="0" lang="en-US" sz="5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635440" y="1225440"/>
                <a:ext cx="228600" cy="0"/>
              </a:xfrm>
              <a:prstGeom prst="line">
                <a:avLst/>
              </a:prstGeom>
              <a:ln w="28440">
                <a:solidFill>
                  <a:srgbClr val="fe0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578200" y="85716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e000d"/>
                    </a:solidFill>
                    <a:latin typeface="Times New Roman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589360" y="117756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e000d"/>
                    </a:solidFill>
                    <a:latin typeface="Times New Roman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51400" y="98712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e000d"/>
                    </a:solidFill>
                    <a:latin typeface="Times New Roman"/>
                  </a:rPr>
                  <a:t>–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878080" y="1074600"/>
                <a:ext cx="26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e000d"/>
                    </a:solidFill>
                    <a:latin typeface="Times New Roman"/>
                  </a:rPr>
                  <a:t>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43400" y="1234800"/>
                <a:ext cx="228600" cy="0"/>
              </a:xfrm>
              <a:prstGeom prst="line">
                <a:avLst/>
              </a:prstGeom>
              <a:ln w="28440">
                <a:solidFill>
                  <a:srgbClr val="fe0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086160" y="86652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e000d"/>
                    </a:solidFill>
                    <a:latin typeface="Times New Roman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97320" y="118728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e000d"/>
                    </a:solidFill>
                    <a:latin typeface="Times New Roman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270480" y="798120"/>
                <a:ext cx="39240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0" spc="-1" strike="noStrike">
                    <a:solidFill>
                      <a:srgbClr val="fe000d"/>
                    </a:solidFill>
                    <a:latin typeface="Times New Roman"/>
                  </a:rPr>
                  <a:t>)</a:t>
                </a:r>
                <a:endParaRPr b="0" lang="en-US" sz="5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297640" y="1203120"/>
                <a:ext cx="263520" cy="0"/>
              </a:xfrm>
              <a:prstGeom prst="line">
                <a:avLst/>
              </a:prstGeom>
              <a:ln w="28440">
                <a:solidFill>
                  <a:srgbClr val="fe0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240400" y="83484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e000d"/>
                    </a:solidFill>
                    <a:latin typeface="Times New Roman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184600" y="1177560"/>
                <a:ext cx="4611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e000d"/>
                    </a:solidFill>
                    <a:latin typeface="Times New Roman"/>
                  </a:rPr>
                  <a:t>1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424200" y="734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e000d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434000" y="792000"/>
                <a:ext cx="39240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0" spc="-1" strike="noStrike">
                    <a:solidFill>
                      <a:srgbClr val="fe000d"/>
                    </a:solidFill>
                    <a:latin typeface="Times New Roman"/>
                  </a:rPr>
                  <a:t>)</a:t>
                </a:r>
                <a:endParaRPr b="0" lang="en-US" sz="5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721200" y="782280"/>
                <a:ext cx="39240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0" spc="-1" strike="noStrike">
                    <a:solidFill>
                      <a:srgbClr val="fe000d"/>
                    </a:solidFill>
                    <a:latin typeface="Times New Roman"/>
                  </a:rPr>
                  <a:t>(</a:t>
                </a:r>
                <a:endParaRPr b="0" lang="en-US" sz="5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199280" y="82044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e000d"/>
                    </a:solidFill>
                    <a:latin typeface="Times New Roman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196040" y="122688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e000d"/>
                    </a:solidFill>
                    <a:latin typeface="Times New Roman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197840" y="1236600"/>
                <a:ext cx="304560" cy="0"/>
              </a:xfrm>
              <a:prstGeom prst="line">
                <a:avLst/>
              </a:prstGeom>
              <a:ln w="19080">
                <a:solidFill>
                  <a:srgbClr val="fe0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57480" y="7254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e000d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870600" y="97596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e000d"/>
                    </a:solidFill>
                    <a:latin typeface="Times New Roman"/>
                  </a:rPr>
                  <a:t>–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82520" y="1523880"/>
                <a:ext cx="162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a51a1"/>
                    </a:solidFill>
                    <a:latin typeface="Arial"/>
                  </a:rPr>
                  <a:t>to each sid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3" name=""/>
          <p:cNvSpPr/>
          <p:nvPr/>
        </p:nvSpPr>
        <p:spPr>
          <a:xfrm>
            <a:off x="4516560" y="2144880"/>
            <a:ext cx="35449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65600" y="2273400"/>
            <a:ext cx="380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Write left side as a fr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10080" y="3112920"/>
            <a:ext cx="4259160" cy="56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65600" y="3189240"/>
            <a:ext cx="40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Find the square root of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14760" y="4070520"/>
            <a:ext cx="3057480" cy="90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665600" y="4133880"/>
            <a:ext cx="2881440" cy="768960"/>
            <a:chOff x="4665600" y="4133880"/>
            <a:chExt cx="2881440" cy="768960"/>
          </a:xfrm>
        </p:grpSpPr>
        <p:sp>
          <p:nvSpPr>
            <p:cNvPr id="329" name=""/>
            <p:cNvSpPr/>
            <p:nvPr/>
          </p:nvSpPr>
          <p:spPr>
            <a:xfrm>
              <a:off x="4665600" y="4295880"/>
              <a:ext cx="28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1a1"/>
                  </a:solidFill>
                  <a:latin typeface="Arial"/>
                </a:rPr>
                <a:t>Add        to each side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308560" y="4133880"/>
              <a:ext cx="334800" cy="768960"/>
              <a:chOff x="5308560" y="4133880"/>
              <a:chExt cx="334800" cy="768960"/>
            </a:xfrm>
          </p:grpSpPr>
          <p:sp>
            <p:nvSpPr>
              <p:cNvPr id="331" name=""/>
              <p:cNvSpPr/>
              <p:nvPr/>
            </p:nvSpPr>
            <p:spPr>
              <a:xfrm>
                <a:off x="5322600" y="413388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308560" y="447372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327640" y="449892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2451960" y="4122720"/>
            <a:ext cx="1841040" cy="835560"/>
            <a:chOff x="2451960" y="4122720"/>
            <a:chExt cx="1841040" cy="835560"/>
          </a:xfrm>
        </p:grpSpPr>
        <p:sp>
          <p:nvSpPr>
            <p:cNvPr id="335" name=""/>
            <p:cNvSpPr/>
            <p:nvPr/>
          </p:nvSpPr>
          <p:spPr>
            <a:xfrm>
              <a:off x="2451960" y="427680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51000" y="412272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36600" y="452916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44880" y="45212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40880" y="429588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3768840" y="4140360"/>
              <a:ext cx="524160" cy="804960"/>
              <a:chOff x="3768840" y="4140360"/>
              <a:chExt cx="524160" cy="804960"/>
            </a:xfrm>
          </p:grpSpPr>
          <p:sp>
            <p:nvSpPr>
              <p:cNvPr id="341" name=""/>
              <p:cNvSpPr/>
              <p:nvPr/>
            </p:nvSpPr>
            <p:spPr>
              <a:xfrm>
                <a:off x="3975120" y="4147920"/>
                <a:ext cx="3178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94040" y="4346640"/>
                <a:ext cx="255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819600" y="4346640"/>
                <a:ext cx="5220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886200" y="4140360"/>
                <a:ext cx="361800" cy="284040"/>
              </a:xfrm>
              <a:custGeom>
                <a:avLst/>
                <a:gdLst/>
                <a:ahLst/>
                <a:rect l="l" t="t" r="r" b="b"/>
                <a:pathLst>
                  <a:path w="228" h="179">
                    <a:moveTo>
                      <a:pt x="0" y="179"/>
                    </a:moveTo>
                    <a:lnTo>
                      <a:pt x="49" y="0"/>
                    </a:lnTo>
                    <a:lnTo>
                      <a:pt x="22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963960" y="456408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768840" y="4527360"/>
                <a:ext cx="5158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"/>
          <p:cNvSpPr/>
          <p:nvPr/>
        </p:nvSpPr>
        <p:spPr>
          <a:xfrm>
            <a:off x="2421000" y="5265720"/>
            <a:ext cx="2924280" cy="100476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89640" y="5192640"/>
            <a:ext cx="3182760" cy="111780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80960" y="5346720"/>
            <a:ext cx="8164440" cy="873720"/>
            <a:chOff x="480960" y="5346720"/>
            <a:chExt cx="8164440" cy="873720"/>
          </a:xfrm>
        </p:grpSpPr>
        <p:sp>
          <p:nvSpPr>
            <p:cNvPr id="350" name=""/>
            <p:cNvSpPr/>
            <p:nvPr/>
          </p:nvSpPr>
          <p:spPr>
            <a:xfrm>
              <a:off x="2849400" y="538488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35000" y="579132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65600" y="5783040"/>
              <a:ext cx="274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0960" y="5529240"/>
              <a:ext cx="816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solutions ar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.28  an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0.78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27680" y="534672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24440" y="575316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54680" y="5745240"/>
              <a:ext cx="274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43480" y="552780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3657600" y="5392800"/>
              <a:ext cx="524160" cy="804960"/>
              <a:chOff x="3657600" y="5392800"/>
              <a:chExt cx="524160" cy="804960"/>
            </a:xfrm>
          </p:grpSpPr>
          <p:sp>
            <p:nvSpPr>
              <p:cNvPr id="359" name=""/>
              <p:cNvSpPr/>
              <p:nvPr/>
            </p:nvSpPr>
            <p:spPr>
              <a:xfrm>
                <a:off x="3863880" y="5400360"/>
                <a:ext cx="3178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682800" y="5599080"/>
                <a:ext cx="255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708360" y="5599080"/>
                <a:ext cx="5220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774960" y="5392800"/>
                <a:ext cx="361800" cy="284040"/>
              </a:xfrm>
              <a:custGeom>
                <a:avLst/>
                <a:gdLst/>
                <a:ahLst/>
                <a:rect l="l" t="t" r="r" b="b"/>
                <a:pathLst>
                  <a:path w="228" h="179">
                    <a:moveTo>
                      <a:pt x="0" y="179"/>
                    </a:moveTo>
                    <a:lnTo>
                      <a:pt x="49" y="0"/>
                    </a:lnTo>
                    <a:lnTo>
                      <a:pt x="22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52720" y="581652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57600" y="5779800"/>
                <a:ext cx="5158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624720" y="5375160"/>
              <a:ext cx="524160" cy="805320"/>
              <a:chOff x="6624720" y="5375160"/>
              <a:chExt cx="524160" cy="805320"/>
            </a:xfrm>
          </p:grpSpPr>
          <p:sp>
            <p:nvSpPr>
              <p:cNvPr id="366" name=""/>
              <p:cNvSpPr/>
              <p:nvPr/>
            </p:nvSpPr>
            <p:spPr>
              <a:xfrm>
                <a:off x="6831000" y="5383080"/>
                <a:ext cx="3178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649920" y="5581800"/>
                <a:ext cx="255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675480" y="5581800"/>
                <a:ext cx="5220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42080" y="5375160"/>
                <a:ext cx="361800" cy="284400"/>
              </a:xfrm>
              <a:custGeom>
                <a:avLst/>
                <a:gdLst/>
                <a:ahLst/>
                <a:rect l="l" t="t" r="r" b="b"/>
                <a:pathLst>
                  <a:path w="228" h="179">
                    <a:moveTo>
                      <a:pt x="0" y="179"/>
                    </a:moveTo>
                    <a:lnTo>
                      <a:pt x="49" y="0"/>
                    </a:lnTo>
                    <a:lnTo>
                      <a:pt x="22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819840" y="579924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624720" y="5762520"/>
                <a:ext cx="5158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2" name=""/>
          <p:cNvSpPr/>
          <p:nvPr/>
        </p:nvSpPr>
        <p:spPr>
          <a:xfrm>
            <a:off x="176040" y="743040"/>
            <a:ext cx="8742600" cy="43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079720" y="1978200"/>
            <a:ext cx="6356160" cy="447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11240" y="100080"/>
            <a:ext cx="4061160" cy="460440"/>
            <a:chOff x="111240" y="100080"/>
            <a:chExt cx="4061160" cy="460440"/>
          </a:xfrm>
        </p:grpSpPr>
        <p:sp>
          <p:nvSpPr>
            <p:cNvPr id="376" name=""/>
            <p:cNvSpPr/>
            <p:nvPr/>
          </p:nvSpPr>
          <p:spPr>
            <a:xfrm>
              <a:off x="1487880" y="136800"/>
              <a:ext cx="268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pleting the Squ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111240" y="10008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8" name=""/>
          <p:cNvSpPr/>
          <p:nvPr/>
        </p:nvSpPr>
        <p:spPr>
          <a:xfrm>
            <a:off x="1541520" y="498600"/>
            <a:ext cx="73468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39840" y="1994040"/>
            <a:ext cx="621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ou can check the solutions on a graphing calculat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2079720" y="2541600"/>
            <a:ext cx="6352920" cy="3589200"/>
          </a:xfrm>
          <a:prstGeom prst="rect">
            <a:avLst/>
          </a:prstGeom>
          <a:ln w="0">
            <a:noFill/>
          </a:ln>
        </p:spPr>
      </p:pic>
      <p:grpSp>
        <p:nvGrpSpPr>
          <p:cNvPr id="381" name=""/>
          <p:cNvGrpSpPr/>
          <p:nvPr/>
        </p:nvGrpSpPr>
        <p:grpSpPr>
          <a:xfrm>
            <a:off x="480960" y="776160"/>
            <a:ext cx="8164440" cy="873720"/>
            <a:chOff x="480960" y="776160"/>
            <a:chExt cx="8164440" cy="873720"/>
          </a:xfrm>
        </p:grpSpPr>
        <p:sp>
          <p:nvSpPr>
            <p:cNvPr id="382" name=""/>
            <p:cNvSpPr/>
            <p:nvPr/>
          </p:nvSpPr>
          <p:spPr>
            <a:xfrm>
              <a:off x="2849400" y="81432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35000" y="122076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865600" y="1212480"/>
              <a:ext cx="274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0960" y="958680"/>
              <a:ext cx="816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solutions ar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.28  an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0.78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27680" y="77616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24440" y="118260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54680" y="1174680"/>
              <a:ext cx="274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43480" y="95724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3657600" y="822240"/>
              <a:ext cx="524160" cy="804960"/>
              <a:chOff x="3657600" y="822240"/>
              <a:chExt cx="524160" cy="804960"/>
            </a:xfrm>
          </p:grpSpPr>
          <p:sp>
            <p:nvSpPr>
              <p:cNvPr id="391" name=""/>
              <p:cNvSpPr/>
              <p:nvPr/>
            </p:nvSpPr>
            <p:spPr>
              <a:xfrm>
                <a:off x="3863880" y="829800"/>
                <a:ext cx="3178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682800" y="1028520"/>
                <a:ext cx="255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708360" y="1028520"/>
                <a:ext cx="5220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774960" y="822240"/>
                <a:ext cx="361800" cy="284040"/>
              </a:xfrm>
              <a:custGeom>
                <a:avLst/>
                <a:gdLst/>
                <a:ahLst/>
                <a:rect l="l" t="t" r="r" b="b"/>
                <a:pathLst>
                  <a:path w="228" h="179">
                    <a:moveTo>
                      <a:pt x="0" y="179"/>
                    </a:moveTo>
                    <a:lnTo>
                      <a:pt x="49" y="0"/>
                    </a:lnTo>
                    <a:lnTo>
                      <a:pt x="22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852720" y="12459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657600" y="1209240"/>
                <a:ext cx="5158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6624720" y="804600"/>
              <a:ext cx="524160" cy="805320"/>
              <a:chOff x="6624720" y="804600"/>
              <a:chExt cx="524160" cy="805320"/>
            </a:xfrm>
          </p:grpSpPr>
          <p:sp>
            <p:nvSpPr>
              <p:cNvPr id="398" name=""/>
              <p:cNvSpPr/>
              <p:nvPr/>
            </p:nvSpPr>
            <p:spPr>
              <a:xfrm>
                <a:off x="6831000" y="812520"/>
                <a:ext cx="3178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649920" y="1011240"/>
                <a:ext cx="255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675480" y="1011240"/>
                <a:ext cx="5220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742080" y="804600"/>
                <a:ext cx="361800" cy="284400"/>
              </a:xfrm>
              <a:custGeom>
                <a:avLst/>
                <a:gdLst/>
                <a:ahLst/>
                <a:rect l="l" t="t" r="r" b="b"/>
                <a:pathLst>
                  <a:path w="228" h="179">
                    <a:moveTo>
                      <a:pt x="0" y="179"/>
                    </a:moveTo>
                    <a:lnTo>
                      <a:pt x="49" y="0"/>
                    </a:lnTo>
                    <a:lnTo>
                      <a:pt x="22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819840" y="122868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624720" y="1191960"/>
                <a:ext cx="5158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619200" y="1827360"/>
            <a:ext cx="1192320" cy="561960"/>
            <a:chOff x="619200" y="1827360"/>
            <a:chExt cx="1192320" cy="561960"/>
          </a:xfrm>
        </p:grpSpPr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619200" y="1827360"/>
              <a:ext cx="482760" cy="482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</p:pic>
        <p:sp>
          <p:nvSpPr>
            <p:cNvPr id="406" name=""/>
            <p:cNvSpPr/>
            <p:nvPr/>
          </p:nvSpPr>
          <p:spPr>
            <a:xfrm>
              <a:off x="891720" y="2021040"/>
              <a:ext cx="91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a50a1"/>
                  </a:solidFill>
                  <a:latin typeface="Arial"/>
                </a:rPr>
                <a:t>C</a:t>
              </a:r>
              <a:r>
                <a:rPr b="1" lang="en-US" sz="1600" spc="-1" strike="noStrike">
                  <a:solidFill>
                    <a:srgbClr val="0a50a1"/>
                  </a:solidFill>
                  <a:latin typeface="Arial"/>
                </a:rPr>
                <a:t>HE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8720" y="1141560"/>
            <a:ext cx="7336080" cy="788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44600" y="214200"/>
            <a:ext cx="443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OSING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UTIO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176040" y="227160"/>
            <a:ext cx="1097280" cy="4330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460520" y="622440"/>
            <a:ext cx="74264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5200" y="70632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51a1"/>
                </a:solidFill>
                <a:latin typeface="Arial"/>
              </a:rPr>
              <a:t>Investigating the Quadratic Form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81400" y="1152360"/>
            <a:ext cx="7093080" cy="801360"/>
            <a:chOff x="581400" y="1152360"/>
            <a:chExt cx="7093080" cy="801360"/>
          </a:xfrm>
        </p:grpSpPr>
        <p:sp>
          <p:nvSpPr>
            <p:cNvPr id="414" name=""/>
            <p:cNvSpPr/>
            <p:nvPr/>
          </p:nvSpPr>
          <p:spPr>
            <a:xfrm>
              <a:off x="585360" y="1152360"/>
              <a:ext cx="7089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Perform the following steps on the general quadratic equ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1400" y="1494000"/>
              <a:ext cx="369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 0    where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0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4162320" y="2855880"/>
            <a:ext cx="2772000" cy="49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57640" y="2162160"/>
            <a:ext cx="3205080" cy="43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06200" y="2128680"/>
            <a:ext cx="20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e000d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957960" y="2712960"/>
            <a:ext cx="2015640" cy="753120"/>
            <a:chOff x="957960" y="2712960"/>
            <a:chExt cx="2015640" cy="753120"/>
          </a:xfrm>
        </p:grpSpPr>
        <p:sp>
          <p:nvSpPr>
            <p:cNvPr id="420" name=""/>
            <p:cNvSpPr/>
            <p:nvPr/>
          </p:nvSpPr>
          <p:spPr>
            <a:xfrm>
              <a:off x="957960" y="2870280"/>
              <a:ext cx="16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    + 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527480" y="2730600"/>
              <a:ext cx="44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21080" y="3122640"/>
              <a:ext cx="23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79680" y="303696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e000d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66720" y="2712960"/>
              <a:ext cx="50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14680" y="3098880"/>
              <a:ext cx="28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38440" y="301320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e000d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4164120" y="3637080"/>
            <a:ext cx="4719600" cy="711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96920" y="3506760"/>
            <a:ext cx="3834000" cy="869760"/>
            <a:chOff x="196920" y="3506760"/>
            <a:chExt cx="3834000" cy="869760"/>
          </a:xfrm>
        </p:grpSpPr>
        <p:sp>
          <p:nvSpPr>
            <p:cNvPr id="429" name=""/>
            <p:cNvSpPr/>
            <p:nvPr/>
          </p:nvSpPr>
          <p:spPr>
            <a:xfrm>
              <a:off x="817920" y="3560760"/>
              <a:ext cx="44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911520" y="3975120"/>
              <a:ext cx="23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70120" y="392256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6920" y="3722400"/>
              <a:ext cx="30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     </a:t>
              </a: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+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=       </a:t>
              </a: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31880" y="356688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e000d"/>
                  </a:solidFill>
                  <a:latin typeface="Times New Roman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70400" y="3970080"/>
              <a:ext cx="231480" cy="0"/>
            </a:xfrm>
            <a:prstGeom prst="line">
              <a:avLst/>
            </a:prstGeom>
            <a:ln w="19080">
              <a:solidFill>
                <a:srgbClr val="fe0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550880" y="3929040"/>
              <a:ext cx="460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e000d"/>
                  </a:solidFill>
                  <a:latin typeface="Times New Roman"/>
                </a:rPr>
                <a:t>2</a:t>
              </a:r>
              <a:r>
                <a:rPr b="0" i="1" lang="en-US" sz="2200" spc="-1" strike="noStrike">
                  <a:solidFill>
                    <a:srgbClr val="fe000d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49320" y="3512880"/>
              <a:ext cx="3924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e000d"/>
                  </a:solidFill>
                  <a:latin typeface="Times New Roman"/>
                </a:rPr>
                <a:t>)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33440" y="3506760"/>
              <a:ext cx="3924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e000d"/>
                  </a:solidFill>
                  <a:latin typeface="Times New Roman"/>
                </a:rPr>
                <a:t>(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96880" y="3562200"/>
              <a:ext cx="50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544840" y="3963960"/>
              <a:ext cx="28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46280" y="387828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32560" y="359712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30000">
                  <a:solidFill>
                    <a:srgbClr val="fe000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21080" y="357480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e000d"/>
                  </a:solidFill>
                  <a:latin typeface="Times New Roman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59240" y="3978000"/>
              <a:ext cx="231840" cy="0"/>
            </a:xfrm>
            <a:prstGeom prst="line">
              <a:avLst/>
            </a:prstGeom>
            <a:ln w="19080">
              <a:solidFill>
                <a:srgbClr val="fe0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17760" y="3936960"/>
              <a:ext cx="460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e000d"/>
                  </a:solidFill>
                  <a:latin typeface="Times New Roman"/>
                </a:rPr>
                <a:t>2</a:t>
              </a:r>
              <a:r>
                <a:rPr b="0" i="1" lang="en-US" sz="2200" spc="-1" strike="noStrike">
                  <a:solidFill>
                    <a:srgbClr val="fe000d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38520" y="3520800"/>
              <a:ext cx="3924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e000d"/>
                  </a:solidFill>
                  <a:latin typeface="Times New Roman"/>
                </a:rPr>
                <a:t>)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22640" y="3514680"/>
              <a:ext cx="3924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e000d"/>
                  </a:solidFill>
                  <a:latin typeface="Times New Roman"/>
                </a:rPr>
                <a:t>(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54800" y="358272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30000">
                  <a:solidFill>
                    <a:srgbClr val="fe000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4168800" y="4664160"/>
            <a:ext cx="4721040" cy="480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892080" y="4395960"/>
            <a:ext cx="2800440" cy="884880"/>
            <a:chOff x="892080" y="4395960"/>
            <a:chExt cx="2800440" cy="884880"/>
          </a:xfrm>
        </p:grpSpPr>
        <p:sp>
          <p:nvSpPr>
            <p:cNvPr id="450" name=""/>
            <p:cNvSpPr/>
            <p:nvPr/>
          </p:nvSpPr>
          <p:spPr>
            <a:xfrm>
              <a:off x="1552320" y="445608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e000d"/>
                  </a:solidFill>
                  <a:latin typeface="Times New Roman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590840" y="4859280"/>
              <a:ext cx="231480" cy="0"/>
            </a:xfrm>
            <a:prstGeom prst="line">
              <a:avLst/>
            </a:prstGeom>
            <a:ln w="19080">
              <a:solidFill>
                <a:srgbClr val="fe0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71320" y="4818240"/>
              <a:ext cx="460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e000d"/>
                  </a:solidFill>
                  <a:latin typeface="Times New Roman"/>
                </a:rPr>
                <a:t>2</a:t>
              </a:r>
              <a:r>
                <a:rPr b="0" i="1" lang="en-US" sz="2200" spc="-1" strike="noStrike">
                  <a:solidFill>
                    <a:srgbClr val="fe000d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69760" y="4402080"/>
              <a:ext cx="3924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e000d"/>
                  </a:solidFill>
                  <a:latin typeface="Times New Roman"/>
                </a:rPr>
                <a:t>)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92080" y="4395960"/>
              <a:ext cx="3924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e000d"/>
                  </a:solidFill>
                  <a:latin typeface="Times New Roman"/>
                </a:rPr>
                <a:t>(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53000" y="448632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30000">
                  <a:solidFill>
                    <a:srgbClr val="fe000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56600" y="460548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e000d"/>
                  </a:solidFill>
                  <a:latin typeface="Times New Roman"/>
                </a:rPr>
                <a:t>x +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  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7920" y="4462560"/>
              <a:ext cx="50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85880" y="4863960"/>
              <a:ext cx="28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87320" y="477828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81400" y="44845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257640" y="4862520"/>
              <a:ext cx="28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43160" y="48211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172040" y="5459400"/>
            <a:ext cx="4752720" cy="70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78160" y="5477040"/>
            <a:ext cx="4675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Use a </a:t>
            </a:r>
            <a:r>
              <a:rPr b="0" lang="en-US" sz="2000" spc="-1" strike="noStrike">
                <a:solidFill>
                  <a:srgbClr val="fe000d"/>
                </a:solidFill>
                <a:latin typeface="Arial"/>
              </a:rPr>
              <a:t>common denominator</a:t>
            </a: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 to express the right side as a single fra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922320" y="5376960"/>
            <a:ext cx="2948760" cy="861840"/>
            <a:chOff x="922320" y="5376960"/>
            <a:chExt cx="2948760" cy="861840"/>
          </a:xfrm>
        </p:grpSpPr>
        <p:sp>
          <p:nvSpPr>
            <p:cNvPr id="466" name=""/>
            <p:cNvSpPr/>
            <p:nvPr/>
          </p:nvSpPr>
          <p:spPr>
            <a:xfrm>
              <a:off x="1638000" y="543708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76520" y="5840280"/>
              <a:ext cx="231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57000" y="5799240"/>
              <a:ext cx="460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855800" y="5383080"/>
              <a:ext cx="3924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22320" y="5376960"/>
              <a:ext cx="3924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038680" y="546732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79280" y="557388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+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21800" y="543240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fe000d"/>
                  </a:solidFill>
                  <a:latin typeface="Times New Roman"/>
                </a:rPr>
                <a:t>4</a:t>
              </a:r>
              <a:r>
                <a:rPr b="0" i="1" lang="en-US" sz="2200" spc="-1" strike="noStrike">
                  <a:solidFill>
                    <a:srgbClr val="fe000d"/>
                  </a:solidFill>
                  <a:latin typeface="Times New Roman"/>
                </a:rPr>
                <a:t>a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 + b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977200" y="5796000"/>
              <a:ext cx="541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28800" y="5838840"/>
              <a:ext cx="1047960" cy="0"/>
            </a:xfrm>
            <a:prstGeom prst="line">
              <a:avLst/>
            </a:prstGeom>
            <a:ln w="19080">
              <a:solidFill>
                <a:srgbClr val="fe0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127400" y="2131920"/>
            <a:ext cx="328932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92560" y="214488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Subtract</a:t>
            </a:r>
            <a:r>
              <a:rPr b="0" lang="en-US" sz="2200" spc="-1" strike="noStrike">
                <a:solidFill>
                  <a:srgbClr val="0a51a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e000d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a51a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10120" y="2817720"/>
            <a:ext cx="3289320" cy="6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79960" y="286236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Divide each side by</a:t>
            </a:r>
            <a:r>
              <a:rPr b="0" lang="en-US" sz="2200" spc="-1" strike="noStrike">
                <a:solidFill>
                  <a:srgbClr val="0a51a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e000d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03640" y="3583080"/>
            <a:ext cx="484344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03720" y="3672000"/>
            <a:ext cx="43419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Add the </a:t>
            </a:r>
            <a:r>
              <a:rPr b="0" lang="en-US" sz="2000" spc="-1" strike="noStrike">
                <a:solidFill>
                  <a:srgbClr val="fe000d"/>
                </a:solidFill>
                <a:latin typeface="Arial"/>
              </a:rPr>
              <a:t>square</a:t>
            </a: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e000d"/>
                </a:solidFill>
                <a:latin typeface="Arial"/>
              </a:rPr>
              <a:t>half</a:t>
            </a: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 the </a:t>
            </a:r>
            <a:r>
              <a:rPr b="0" lang="en-US" sz="2000" spc="-1" strike="noStrike">
                <a:solidFill>
                  <a:srgbClr val="fe000d"/>
                </a:solidFill>
                <a:latin typeface="Arial"/>
              </a:rPr>
              <a:t>coefficient</a:t>
            </a: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 of</a:t>
            </a:r>
            <a:r>
              <a:rPr b="0" lang="en-US" sz="2200" spc="-1" strike="noStrike">
                <a:solidFill>
                  <a:srgbClr val="0a51a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e000d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a51a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43240" y="4610160"/>
            <a:ext cx="4799160" cy="58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89320" y="4692600"/>
            <a:ext cx="45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Write the left side as a </a:t>
            </a:r>
            <a:r>
              <a:rPr b="0" lang="en-US" sz="2000" spc="-1" strike="noStrike">
                <a:solidFill>
                  <a:srgbClr val="fe000d"/>
                </a:solidFill>
                <a:latin typeface="Arial"/>
              </a:rPr>
              <a:t>perfect square</a:t>
            </a: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5240" y="1130400"/>
            <a:ext cx="8742240" cy="421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1344600" y="210960"/>
            <a:ext cx="443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OSING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UTIO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176040" y="223920"/>
            <a:ext cx="1097280" cy="433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460520" y="61920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017960" y="1380960"/>
            <a:ext cx="4832280" cy="784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017960" y="2617920"/>
            <a:ext cx="4808520" cy="809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653760" y="2558880"/>
            <a:ext cx="3063600" cy="918000"/>
            <a:chOff x="653760" y="2558880"/>
            <a:chExt cx="3063600" cy="918000"/>
          </a:xfrm>
        </p:grpSpPr>
        <p:sp>
          <p:nvSpPr>
            <p:cNvPr id="492" name=""/>
            <p:cNvSpPr/>
            <p:nvPr/>
          </p:nvSpPr>
          <p:spPr>
            <a:xfrm>
              <a:off x="1355400" y="260496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e000d"/>
                  </a:solidFill>
                  <a:latin typeface="Times New Roman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93920" y="3008160"/>
              <a:ext cx="231840" cy="1440"/>
            </a:xfrm>
            <a:prstGeom prst="line">
              <a:avLst/>
            </a:prstGeom>
            <a:ln w="19080">
              <a:solidFill>
                <a:srgbClr val="fe0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12600" y="3047760"/>
              <a:ext cx="460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02400" y="2597040"/>
              <a:ext cx="262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e000d"/>
                  </a:solidFill>
                  <a:latin typeface="Symbol"/>
                  <a:ea typeface="Symbol"/>
                </a:rPr>
                <a:t>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615400" y="261756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78840" y="2568240"/>
              <a:ext cx="12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005280" y="2597040"/>
              <a:ext cx="11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241080" y="262080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404160" y="262080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2398680" y="2558880"/>
              <a:ext cx="1306440" cy="353880"/>
              <a:chOff x="2398680" y="2558880"/>
              <a:chExt cx="1306440" cy="353880"/>
            </a:xfrm>
          </p:grpSpPr>
          <p:sp>
            <p:nvSpPr>
              <p:cNvPr id="502" name=""/>
              <p:cNvSpPr/>
              <p:nvPr/>
            </p:nvSpPr>
            <p:spPr>
              <a:xfrm>
                <a:off x="2398680" y="2803320"/>
                <a:ext cx="46080" cy="1440"/>
              </a:xfrm>
              <a:prstGeom prst="line">
                <a:avLst/>
              </a:prstGeom>
              <a:ln w="27000">
                <a:solidFill>
                  <a:srgbClr val="fe0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425680" y="2803320"/>
                <a:ext cx="84240" cy="106200"/>
              </a:xfrm>
              <a:prstGeom prst="line">
                <a:avLst/>
              </a:prstGeom>
              <a:ln w="28440">
                <a:solidFill>
                  <a:srgbClr val="fe0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508120" y="2558880"/>
                <a:ext cx="1197000" cy="353880"/>
              </a:xfrm>
              <a:custGeom>
                <a:avLst/>
                <a:gdLst/>
                <a:ahLst/>
                <a:rect l="l" t="t" r="r" b="b"/>
                <a:pathLst>
                  <a:path w="754" h="223">
                    <a:moveTo>
                      <a:pt x="0" y="223"/>
                    </a:moveTo>
                    <a:lnTo>
                      <a:pt x="51" y="0"/>
                    </a:lnTo>
                    <a:lnTo>
                      <a:pt x="754" y="0"/>
                    </a:lnTo>
                  </a:path>
                </a:pathLst>
              </a:custGeom>
              <a:noFill/>
              <a:ln w="27000">
                <a:solidFill>
                  <a:srgbClr val="fe000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2141640" y="3035160"/>
              <a:ext cx="1555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95280" y="2976480"/>
              <a:ext cx="460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e000d"/>
                  </a:solidFill>
                  <a:latin typeface="Times New Roman"/>
                </a:rPr>
                <a:t>2</a:t>
              </a:r>
              <a:r>
                <a:rPr b="0" i="1" lang="en-US" sz="2200" spc="-1" strike="noStrike">
                  <a:solidFill>
                    <a:srgbClr val="fe000d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53760" y="277632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e000d"/>
                  </a:solidFill>
                  <a:latin typeface="Times New Roman"/>
                </a:rPr>
                <a:t>x +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4017960" y="3929040"/>
            <a:ext cx="4780080" cy="81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017960" y="5214960"/>
            <a:ext cx="4792680" cy="77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94280" y="5273640"/>
            <a:ext cx="47242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Use a </a:t>
            </a:r>
            <a:r>
              <a:rPr b="0" lang="en-US" sz="2000" spc="-1" strike="noStrike">
                <a:solidFill>
                  <a:srgbClr val="fe000d"/>
                </a:solidFill>
                <a:latin typeface="Arial"/>
              </a:rPr>
              <a:t>common denominator</a:t>
            </a: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 to express the right side as a single fr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5200" y="70632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51a1"/>
                </a:solidFill>
                <a:latin typeface="Arial"/>
              </a:rPr>
              <a:t>Investigating the Quadratic Form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51360" y="1332000"/>
            <a:ext cx="4933800" cy="88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490320" y="1332000"/>
            <a:ext cx="8426520" cy="861840"/>
            <a:chOff x="490320" y="1332000"/>
            <a:chExt cx="8426520" cy="861840"/>
          </a:xfrm>
        </p:grpSpPr>
        <p:sp>
          <p:nvSpPr>
            <p:cNvPr id="514" name=""/>
            <p:cNvSpPr/>
            <p:nvPr/>
          </p:nvSpPr>
          <p:spPr>
            <a:xfrm>
              <a:off x="4094280" y="1442880"/>
              <a:ext cx="482256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1a1"/>
                  </a:solidFill>
                  <a:latin typeface="Arial"/>
                </a:rPr>
                <a:t>Use a </a:t>
              </a:r>
              <a:r>
                <a:rPr b="0" lang="en-US" sz="2000" spc="-1" strike="noStrike">
                  <a:solidFill>
                    <a:srgbClr val="fe000d"/>
                  </a:solidFill>
                  <a:latin typeface="Arial"/>
                </a:rPr>
                <a:t>common denominator</a:t>
              </a:r>
              <a:r>
                <a:rPr b="0" lang="en-US" sz="2000" spc="-1" strike="noStrike">
                  <a:solidFill>
                    <a:srgbClr val="0a51a1"/>
                  </a:solidFill>
                  <a:latin typeface="Arial"/>
                </a:rPr>
                <a:t> to express the right side as a single fraction.</a:t>
              </a:r>
              <a:r>
                <a:rPr b="0" lang="en-US" sz="2200" spc="-1" strike="noStrike">
                  <a:solidFill>
                    <a:srgbClr val="0a51a1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490320" y="1332000"/>
              <a:ext cx="2948760" cy="861840"/>
              <a:chOff x="490320" y="1332000"/>
              <a:chExt cx="2948760" cy="861840"/>
            </a:xfrm>
          </p:grpSpPr>
          <p:sp>
            <p:nvSpPr>
              <p:cNvPr id="516" name=""/>
              <p:cNvSpPr/>
              <p:nvPr/>
            </p:nvSpPr>
            <p:spPr>
              <a:xfrm>
                <a:off x="1206360" y="139212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244520" y="1795320"/>
                <a:ext cx="2318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125360" y="1754280"/>
                <a:ext cx="460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423800" y="1338120"/>
                <a:ext cx="39240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5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90320" y="1332000"/>
                <a:ext cx="39240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5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606680" y="1422360"/>
                <a:ext cx="26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47280" y="1528920"/>
                <a:ext cx="145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+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089800" y="1400040"/>
                <a:ext cx="134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fe000d"/>
                    </a:solidFill>
                    <a:latin typeface="Times New Roman"/>
                  </a:rPr>
                  <a:t>4</a:t>
                </a:r>
                <a:r>
                  <a:rPr b="0" i="1" lang="en-US" sz="2200" spc="-1" strike="noStrike">
                    <a:solidFill>
                      <a:srgbClr val="fe000d"/>
                    </a:solidFill>
                    <a:latin typeface="Times New Roman"/>
                  </a:rPr>
                  <a:t>a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c + b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545200" y="1763640"/>
                <a:ext cx="567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297160" y="1806480"/>
                <a:ext cx="1047600" cy="0"/>
              </a:xfrm>
              <a:prstGeom prst="line">
                <a:avLst/>
              </a:prstGeom>
              <a:ln w="19080">
                <a:solidFill>
                  <a:srgbClr val="fe0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704160" y="3892680"/>
            <a:ext cx="2998080" cy="918000"/>
            <a:chOff x="704160" y="3892680"/>
            <a:chExt cx="2998080" cy="918000"/>
          </a:xfrm>
        </p:grpSpPr>
        <p:sp>
          <p:nvSpPr>
            <p:cNvPr id="527" name=""/>
            <p:cNvSpPr/>
            <p:nvPr/>
          </p:nvSpPr>
          <p:spPr>
            <a:xfrm>
              <a:off x="704160" y="4106880"/>
              <a:ext cx="26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>
                  <a:solidFill>
                    <a:srgbClr val="fe000d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                      </a:t>
              </a: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01920" y="395928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e000d"/>
                  </a:solidFill>
                  <a:latin typeface="Times New Roman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40080" y="4362480"/>
              <a:ext cx="231840" cy="1080"/>
            </a:xfrm>
            <a:prstGeom prst="line">
              <a:avLst/>
            </a:prstGeom>
            <a:ln w="19080">
              <a:solidFill>
                <a:srgbClr val="fe0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41440" y="4330440"/>
              <a:ext cx="460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e000d"/>
                  </a:solidFill>
                  <a:latin typeface="Times New Roman"/>
                </a:rPr>
                <a:t>2</a:t>
              </a:r>
              <a:r>
                <a:rPr b="0" i="1" lang="en-US" sz="2200" spc="-1" strike="noStrike">
                  <a:solidFill>
                    <a:srgbClr val="fe000d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1302120" y="3892680"/>
              <a:ext cx="1614960" cy="918000"/>
              <a:chOff x="1302120" y="3892680"/>
              <a:chExt cx="1614960" cy="918000"/>
            </a:xfrm>
          </p:grpSpPr>
          <p:sp>
            <p:nvSpPr>
              <p:cNvPr id="532" name=""/>
              <p:cNvSpPr/>
              <p:nvPr/>
            </p:nvSpPr>
            <p:spPr>
              <a:xfrm>
                <a:off x="1912680" y="4381560"/>
                <a:ext cx="460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02120" y="3930840"/>
                <a:ext cx="2628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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815120" y="3976920"/>
                <a:ext cx="1926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978920" y="392760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05000" y="3956040"/>
                <a:ext cx="1105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440800" y="3980160"/>
                <a:ext cx="166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603880" y="3980160"/>
                <a:ext cx="3132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ac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9" name=""/>
              <p:cNvGrpSpPr/>
              <p:nvPr/>
            </p:nvGrpSpPr>
            <p:grpSpPr>
              <a:xfrm>
                <a:off x="1598400" y="3892680"/>
                <a:ext cx="1306440" cy="353880"/>
                <a:chOff x="1598400" y="3892680"/>
                <a:chExt cx="1306440" cy="35388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1598400" y="4137120"/>
                  <a:ext cx="46080" cy="144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625400" y="4137120"/>
                  <a:ext cx="84240" cy="106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707840" y="3892680"/>
                  <a:ext cx="1197000" cy="353880"/>
                </a:xfrm>
                <a:custGeom>
                  <a:avLst/>
                  <a:gdLst/>
                  <a:ahLst/>
                  <a:rect l="l" t="t" r="r" b="b"/>
                  <a:pathLst>
                    <a:path w="754" h="223">
                      <a:moveTo>
                        <a:pt x="0" y="223"/>
                      </a:moveTo>
                      <a:lnTo>
                        <a:pt x="51" y="0"/>
                      </a:lnTo>
                      <a:lnTo>
                        <a:pt x="754" y="0"/>
                      </a:lnTo>
                    </a:path>
                  </a:pathLst>
                </a:custGeom>
                <a:noFill/>
                <a:ln w="27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>
                <a:off x="1341360" y="4368960"/>
                <a:ext cx="1555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4" name=""/>
          <p:cNvGrpSpPr/>
          <p:nvPr/>
        </p:nvGrpSpPr>
        <p:grpSpPr>
          <a:xfrm>
            <a:off x="767520" y="5175360"/>
            <a:ext cx="2807640" cy="957240"/>
            <a:chOff x="767520" y="5175360"/>
            <a:chExt cx="2807640" cy="957240"/>
          </a:xfrm>
        </p:grpSpPr>
        <p:sp>
          <p:nvSpPr>
            <p:cNvPr id="545" name=""/>
            <p:cNvSpPr/>
            <p:nvPr/>
          </p:nvSpPr>
          <p:spPr>
            <a:xfrm>
              <a:off x="767520" y="5408280"/>
              <a:ext cx="56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>
                  <a:solidFill>
                    <a:srgbClr val="fe000d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46120" y="5660640"/>
              <a:ext cx="212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49280" y="5703480"/>
              <a:ext cx="460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03640" y="52290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–</a:t>
              </a:r>
              <a:r>
                <a:rPr b="0" i="1" lang="en-US" sz="2400" spc="-1" strike="noStrike">
                  <a:solidFill>
                    <a:srgbClr val="fe000d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1878480" y="5175360"/>
              <a:ext cx="1614960" cy="483120"/>
              <a:chOff x="1878480" y="5175360"/>
              <a:chExt cx="1614960" cy="483120"/>
            </a:xfrm>
          </p:grpSpPr>
          <p:sp>
            <p:nvSpPr>
              <p:cNvPr id="550" name=""/>
              <p:cNvSpPr/>
              <p:nvPr/>
            </p:nvSpPr>
            <p:spPr>
              <a:xfrm>
                <a:off x="1878480" y="5212800"/>
                <a:ext cx="2628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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391120" y="5258880"/>
                <a:ext cx="1926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54920" y="520992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781360" y="5238360"/>
                <a:ext cx="1105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6800" y="5262120"/>
                <a:ext cx="166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80240" y="5262120"/>
                <a:ext cx="3132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ac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2174760" y="5175360"/>
                <a:ext cx="1306440" cy="353520"/>
                <a:chOff x="2174760" y="5175360"/>
                <a:chExt cx="1306440" cy="35352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2174760" y="5419440"/>
                  <a:ext cx="46080" cy="108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201760" y="5419440"/>
                  <a:ext cx="84240" cy="10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284200" y="5175360"/>
                  <a:ext cx="1197000" cy="353520"/>
                </a:xfrm>
                <a:custGeom>
                  <a:avLst/>
                  <a:gdLst/>
                  <a:ahLst/>
                  <a:rect l="l" t="t" r="r" b="b"/>
                  <a:pathLst>
                    <a:path w="754" h="223">
                      <a:moveTo>
                        <a:pt x="0" y="223"/>
                      </a:moveTo>
                      <a:lnTo>
                        <a:pt x="51" y="0"/>
                      </a:lnTo>
                      <a:lnTo>
                        <a:pt x="754" y="0"/>
                      </a:lnTo>
                    </a:path>
                  </a:pathLst>
                </a:custGeom>
                <a:noFill/>
                <a:ln w="27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60" name=""/>
          <p:cNvSpPr/>
          <p:nvPr/>
        </p:nvSpPr>
        <p:spPr>
          <a:xfrm>
            <a:off x="3963960" y="2563920"/>
            <a:ext cx="4933800" cy="88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094280" y="2697120"/>
            <a:ext cx="40161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Find the </a:t>
            </a:r>
            <a:r>
              <a:rPr b="0" lang="en-US" sz="2000" spc="-1" strike="noStrike">
                <a:solidFill>
                  <a:srgbClr val="fe000d"/>
                </a:solidFill>
                <a:latin typeface="Arial"/>
              </a:rPr>
              <a:t>square root</a:t>
            </a: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e000d"/>
                </a:solidFill>
                <a:latin typeface="Arial"/>
              </a:rPr>
              <a:t>each side</a:t>
            </a: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Include</a:t>
            </a:r>
            <a:r>
              <a:rPr b="0" lang="en-US" sz="2200" spc="-1" strike="noStrike">
                <a:solidFill>
                  <a:srgbClr val="0a51a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e000d"/>
                </a:solidFill>
                <a:latin typeface="Arial"/>
              </a:rPr>
              <a:t>±</a:t>
            </a:r>
            <a:r>
              <a:rPr b="0" lang="en-US" sz="2200" spc="-1" strike="noStrike">
                <a:solidFill>
                  <a:srgbClr val="0a51a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on the righ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63960" y="3897360"/>
            <a:ext cx="4933800" cy="88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094280" y="4021200"/>
            <a:ext cx="46558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Solve for </a:t>
            </a:r>
            <a:r>
              <a:rPr b="0" i="1" lang="en-US" sz="2400" spc="-1" strike="noStrike">
                <a:solidFill>
                  <a:srgbClr val="fe000d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a51a1"/>
                </a:solidFill>
                <a:latin typeface="Arial"/>
              </a:rPr>
              <a:t> by subtracting the same term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1T15:43:20Z</dcterms:created>
  <dc:creator>McDougal Littell</dc:creator>
  <dc:description/>
  <dc:language>en-US</dc:language>
  <cp:lastModifiedBy>y2k2pc</cp:lastModifiedBy>
  <dcterms:modified xsi:type="dcterms:W3CDTF">2000-04-05T15:52:03Z</dcterms:modified>
  <cp:revision>30</cp:revision>
  <dc:subject/>
  <dc:title>No Slide Title</dc:title>
</cp:coreProperties>
</file>